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E35-C7EE-43B8-913C-4AF83CDF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D3C-A025-4DEA-868C-AEAF6BFA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357-2507-42F1-A01B-16706AE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043-CA91-404F-897A-B61D5A7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4D1-D202-4269-A8DE-23B76394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49D-7391-4DF5-8FEF-073C9317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4D0-83D9-4686-9942-AA5B5B2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1EC-25E4-456A-8A7F-E3EB90E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642-3CBC-442B-8E9A-B42F517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866-99E9-499B-911C-962FBDC8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9FD-D31E-47AA-B7F2-85CA492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651-EB5F-4B6F-86DF-D2FBBC8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C8A-FC61-4EC4-B6F7-26AAF5E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604-1AA2-4E19-805B-F206BB45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osidic bond/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lyc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functions of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uctural support, messengers, transport of materials, enzyme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primary” structure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s sequence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level of protein organization are ß-pleated sheets and the alpha-hel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yrimidine bases.  Describe their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ytosine, thymine,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le r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urine bases. Describe thei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enine, guanine  • doubl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mplementary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nsecutive nucleotides in a nucle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dieste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for 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sts/reagents are used to test for starch, lipids (2 tests), monosaccharides, and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ugols (iodine), translucence test, Sudan IV, Benedict’s reagent, Biuret re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2-18T22:34:42Z</dcterms:modified>
  <cp:revision>74</cp:revision>
  <dc:subject/>
  <dc:title>Carbohydrate Review</dc:title>
</cp:coreProperties>
</file>